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F52-FB4B-4996-9B4A-4C0EFFC5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E6E-7AD0-4EB6-ACF2-E8B6A4AA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AEF-B3F8-4843-BFEE-BA9A4613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724-1072-4BA5-B3C6-36625063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169C-E008-44C9-9ACE-707294A6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B136-F16C-4BD2-849B-9BCF9B28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D845-05F9-4187-BFDB-9E50FF7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E451-E74C-42BA-AEF0-E03195E6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B4A7-F14B-4CD7-ACA7-03EAD31D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AAE6-9545-4A7B-BFE3-C037A154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E8BD-29DB-471C-96AA-DCA08BF6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1FD-98B2-443A-B4DA-7D004B25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22DD-C992-4221-B403-1A0459BC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CC34-0250-49C7-A5FD-A40B422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EF87-63F4-4A1A-A4ED-EEC17DCD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C95E-A894-4856-9590-55EC5ADF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B771-F1A7-4F9C-96CE-149A54F2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AFD-FE41-4402-9099-E037BFB9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8BD-53F9-4FB0-8EC0-54C97017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51F-E075-4B29-90FE-E8E07A25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C0D-69E8-4866-B5F8-08D83AFB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611-278B-46CF-8179-74D16B4B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768-A0BA-4AC2-A86E-59DEA362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D48-4215-4644-953E-5036220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BA32-E950-4873-9245-AFA920BC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BF43-BB9A-4278-AA4D-6F159AE27A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95&#23416;&#24180;&#24230;&#29305;&#25945;&#26222;&#26597;/&#33258;&#38281;&#30151;/&#33258;&#38281;&#30151;&#20818;&#31461;&#30340;&#26089;&#26399;&#30332;&#23637;.doc" TargetMode="External"/><Relationship Id="rId2" Type="http://schemas.openxmlformats.org/officeDocument/2006/relationships/hyperlink" Target="file:///../95&#23416;&#24180;&#24230;&#29305;&#25945;&#26222;&#26597;/&#33258;&#38281;&#30151;/&#33258;&#38281;&#30151;&#20818;&#31461;&#30340;&#26089;&#26399;&#30332;&#23637;.doc" TargetMode="External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95&#23416;&#24180;&#24230;&#29305;&#25945;&#26222;&#26597;/&#33258;&#38281;&#30151;/&#37969;&#23450;&#27969;&#31243;&#22294;.doc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95&#23416;&#24180;&#24230;&#29305;&#25945;&#26222;&#26597;/&#33258;&#38281;&#30151;/&#33258;&#38281;&#30151;&#20818;&#31461;&#34892;&#28858;&#27298;&#26680;&#34920;&#65288;&#23416;&#21069;&#20818;&#31461;&#29992;&#65289;.doc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Times New Roman"/>
              </a:rPr>
              <a:t>如何運用自閉症發展檢核表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台灣師大特教系                          張正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—</a:t>
            </a:r>
            <a:br>
              <a:rPr sz="4000"/>
            </a:b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學前版內容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內容包括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基本資料：性別、年齡、就讀學校、口語能力、鑑定相關資料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問卷題目：共</a:t>
            </a:r>
            <a:r>
              <a:rPr b="1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50</a:t>
            </a: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社會領域，</a:t>
            </a:r>
            <a:r>
              <a:rPr b="1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7</a:t>
            </a: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溝通領域，</a:t>
            </a:r>
            <a:r>
              <a:rPr b="1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5</a:t>
            </a: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行為領域：</a:t>
            </a:r>
            <a:r>
              <a:rPr b="1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8</a:t>
            </a: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—</a:t>
            </a:r>
            <a:br>
              <a:rPr sz="4000"/>
            </a:b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低年級版內容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內容包括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基本資料：性別、年齡、就讀學校、口語能力、鑑定相關資料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問卷題目：共</a:t>
            </a:r>
            <a:r>
              <a:rPr b="1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47</a:t>
            </a: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社會領域，</a:t>
            </a:r>
            <a:r>
              <a:rPr b="1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6</a:t>
            </a: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溝通領域，</a:t>
            </a:r>
            <a:r>
              <a:rPr b="1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3</a:t>
            </a: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行為領域：</a:t>
            </a:r>
            <a:r>
              <a:rPr b="1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8</a:t>
            </a: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—</a:t>
            </a:r>
            <a:br>
              <a:rPr sz="4000"/>
            </a:b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中年級以上版內容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內容包括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基本資料：性別、年齡、就讀學校、口語能力、鑑定相關資料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問卷題目：共</a:t>
            </a:r>
            <a:r>
              <a:rPr b="1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47</a:t>
            </a: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社會領域，</a:t>
            </a:r>
            <a:r>
              <a:rPr b="1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8</a:t>
            </a: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溝通領域，</a:t>
            </a:r>
            <a:r>
              <a:rPr b="1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3</a:t>
            </a: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行為領域：</a:t>
            </a:r>
            <a:r>
              <a:rPr b="1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16</a:t>
            </a: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—</a:t>
            </a:r>
            <a:br>
              <a:rPr sz="4400"/>
            </a:br>
            <a:r>
              <a:rPr b="0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編製時的內容考量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得分越高越不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一般兒童容易出現的正向行為其計分採反向計分，即有正向行為者得分越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自閉症兒童容易出現的行為採正向計分，即有負向或怪異行為者得分越高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依一般兒童與自閉症兒童行為的差異表現予以加權計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—</a:t>
            </a:r>
            <a:br>
              <a:rPr sz="4400"/>
            </a:br>
            <a:r>
              <a:rPr b="0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編製時的內容考量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依語言能力做評分的轉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口語能力差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口語能力好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Times New Roman"/>
              </a:rPr>
              <a:t>各向度加權題項及總題數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057400"/>
          <a:ext cx="7772400" cy="4114800"/>
        </p:xfrm>
        <a:graphic>
          <a:graphicData uri="http://schemas.openxmlformats.org/drawingml/2006/table">
            <a:tbl>
              <a:tblPr/>
              <a:tblGrid>
                <a:gridCol w="539640"/>
                <a:gridCol w="2051280"/>
                <a:gridCol w="1295280"/>
                <a:gridCol w="1295280"/>
                <a:gridCol w="1295640"/>
                <a:gridCol w="12952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領域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加權權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社會領域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溝通領域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行為及興趣領域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合計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5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前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組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乘以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題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乘以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題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乘以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題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合計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5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低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年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級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組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乘以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題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乘以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題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乘以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題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合計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5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中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年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級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組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乘以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題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乘以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題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乘以</a:t>
                      </a: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題數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合計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00"/>
                      </a:solidFill>
                    </a:lnL>
                    <a:lnR w="12240">
                      <a:solidFill>
                        <a:srgbClr val="ffff00"/>
                      </a:solidFill>
                    </a:lnR>
                    <a:lnT w="12240">
                      <a:solidFill>
                        <a:srgbClr val="ffff00"/>
                      </a:solidFill>
                    </a:lnT>
                    <a:lnB w="1224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—</a:t>
            </a:r>
            <a:br>
              <a:rPr sz="4000"/>
            </a:b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填表</a:t>
            </a:r>
            <a:r>
              <a:rPr b="1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說明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一、填表者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以熟悉孩子的老師及家長為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二、基本資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1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、每項請仔細填寫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2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、若填表者為老師時，口語能力以下各題項請向家長確認後再填寫。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—</a:t>
            </a:r>
            <a:br>
              <a:rPr sz="4000"/>
            </a:b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填表</a:t>
            </a:r>
            <a:r>
              <a:rPr b="1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說明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三、問卷內容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1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、務必每題都圈選，請勿遺漏任何一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填表者請就每一題在「總是如此」、「經常如此」、「偶爾如此」、「從不如此」中圈選一項。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  <a:ea typeface="華康仿宋體W4"/>
              </a:rPr>
              <a:t>「從不如此」右側各欄位請勿填寫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圈選時的參照標準為同年齡的一般兒童而非特殊兒童。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—</a:t>
            </a:r>
            <a:br>
              <a:rPr sz="4000"/>
            </a:br>
            <a:r>
              <a:rPr b="1" i="1" lang="zh-TW" sz="3600" spc="-1" strike="noStrike">
                <a:solidFill>
                  <a:srgbClr val="ffcc66"/>
                </a:solidFill>
                <a:latin typeface="Times New Roman"/>
                <a:ea typeface="華康仿宋體W4"/>
              </a:rPr>
              <a:t>分析注意事項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一、分析者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受過心理教育測驗、特殊兒童評量訓練，並熟悉此項評量工具者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二、資料審閱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量表回收時請先審閱是否有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  <a:ea typeface="華康仿宋體W4"/>
              </a:rPr>
              <a:t>漏填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、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  <a:ea typeface="華康仿宋體W4"/>
              </a:rPr>
              <a:t>答不完整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或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  <a:ea typeface="華康仿宋體W4"/>
              </a:rPr>
              <a:t>矛盾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的現象，若有上述情形時，請立即與填表人聯絡，確認補足資料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—</a:t>
            </a:r>
            <a:br>
              <a:rPr sz="4000"/>
            </a:b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計分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7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分數越高者，越不利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計分：</a:t>
            </a:r>
            <a:r>
              <a:rPr b="0" lang="zh-TW" sz="24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</a:rPr>
              <a:t>從不如此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右側欄位為逐題計分欄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逐題計分：得分如圈選之分數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45-50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學前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、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41-47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低年級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)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、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36-47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題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中年級以上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之計分：依問卷說明之計分方式計分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依語言能力做評分轉換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-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口語能力差者，較不會出現口語能力好者才能出現的狀  況，故在計分上要做特別處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-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口語能力好者，依原勾選得分計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領域計分：先統計每頁社會領域、溝通領域、行為領域的得分，再將每一頁之各領域得分加總，填於第四頁總結得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總分：將總結的社會領域、溝通領域、行為領域的得分加總即為總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Times New Roman"/>
              </a:rPr>
              <a:t>自閉症的特徵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三大主要行為特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社會性方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溝通方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行為、興趣方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—</a:t>
            </a:r>
            <a:br>
              <a:rPr sz="4000"/>
            </a:br>
            <a:r>
              <a:rPr b="0" i="1" lang="zh-TW" sz="4000" spc="-1" strike="noStrike">
                <a:solidFill>
                  <a:srgbClr val="ffcc66"/>
                </a:solidFill>
                <a:latin typeface="標楷體"/>
                <a:ea typeface="標楷體"/>
              </a:rPr>
              <a:t>計分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切截點：請參考下表於總結第二欄，第一切截、第二切截處圈選適當者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篩選結果：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  <a:ea typeface="華康仿宋體W4"/>
              </a:rPr>
              <a:t>以總分為判斷依據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，領域得分做輔助參考。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(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以中年級以上版本為例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*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非自閉症：總分低於第一切截分數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91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分）者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*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疑似自閉症：總分高於或等於第一切截分數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92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分）者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       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*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有可能：高於第一切截分數，但未達第二切截分數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992-118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分）者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  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*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極有可能：高於或等於第二切截分數（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119   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  <a:ea typeface="華康仿宋體W4"/>
              </a:rPr>
              <a:t>分）者。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總分過切截點者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總分過切截點者：應兼看三領域的表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若三領域均過切截點，且均過第二切截點者，為自閉症的可能性相當高或自閉症的症狀較嚴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若三領域只有一領域過切截點，而其他二領域均未過者，則為自閉症的可能性會下降，此得分的個案應持續後續評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000" spc="-1" strike="noStrike">
                <a:solidFill>
                  <a:srgbClr val="ffcc66"/>
                </a:solidFill>
                <a:latin typeface="Times New Roman"/>
                <a:ea typeface="標楷體"/>
              </a:rPr>
              <a:t>總分未過切截點者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總分未過切截點者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若已被鑑定為自閉症，但總分離切截點分數達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30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分以上者，為求慎重起見，應再做資格認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未被鑑定為自閉症，但總分離切截點分數在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10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分左右者，有可能為廣義自閉症，為求慎重起見，宜做後續評量（第二、三階段的評量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600" spc="-1" strike="noStrike">
                <a:solidFill>
                  <a:srgbClr val="ffcc66"/>
                </a:solidFill>
                <a:latin typeface="華康隸書體W5"/>
                <a:ea typeface="華康隸書體W5"/>
              </a:rPr>
              <a:t>例子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Times New Roman"/>
              </a:rPr>
              <a:t>症狀出現時間與可觀察的行為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一、出現時間：三歲以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二、三歲以前的</a:t>
            </a:r>
            <a:r>
              <a:rPr b="0" lang="zh-TW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行為特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三、三歲到六歲的</a:t>
            </a:r>
            <a:r>
              <a:rPr b="0" lang="zh-TW" sz="32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行為特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四、在幼稚園常見的行為特徵有哪些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Times New Roman"/>
              </a:rPr>
              <a:t>幼稚園常見的行為特徵有哪些？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溝通方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表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理解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社會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和小朋友的互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和老師的互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規則的理解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遊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Times New Roman"/>
              </a:rPr>
              <a:t>幼稚園常見的行為特徵有哪些？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行為方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固著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特殊興趣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飲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睡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其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Times New Roman"/>
              </a:rPr>
              <a:t>鑑定標準之依據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主要參考</a:t>
            </a:r>
            <a:r>
              <a:rPr b="0" lang="en-US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DSM-IV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及「身心障礙資賦優異學生鑑定基準、鑑定原則」中有關自閉症之規定，並以</a:t>
            </a:r>
            <a:r>
              <a:rPr b="0" lang="en-US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DSM-IV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的診斷標準為主要依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 u="sng">
                <a:solidFill>
                  <a:srgbClr val="cc00cc"/>
                </a:solidFill>
                <a:uFillTx/>
                <a:latin typeface="Times New Roman"/>
                <a:ea typeface="標楷體"/>
                <a:hlinkClick r:id="rId1"/>
              </a:rPr>
              <a:t>三階段鑑定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第一階段</a:t>
            </a:r>
            <a:r>
              <a:rPr b="1" lang="en-US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篩選</a:t>
            </a:r>
            <a:r>
              <a:rPr b="1" lang="en-US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第二階段</a:t>
            </a:r>
            <a:r>
              <a:rPr b="1" lang="en-US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訪談</a:t>
            </a:r>
            <a:r>
              <a:rPr b="1" lang="en-US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第三階段</a:t>
            </a:r>
            <a:r>
              <a:rPr b="1" lang="en-US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觀察評量</a:t>
            </a:r>
            <a:r>
              <a:rPr b="1" lang="en-US" sz="1200" spc="-1" strike="noStrike">
                <a:solidFill>
                  <a:srgbClr val="ffffcc"/>
                </a:solidFill>
                <a:latin typeface="標楷體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ffffcc"/>
                </a:solidFill>
                <a:latin typeface="標楷體"/>
                <a:ea typeface="標楷體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8920" y="472428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由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utism Spectrum Disorder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的觀點，本鑑定系統為所指的自閉症為狹義的自閉症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典型自閉症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及亞斯柏格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目的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針對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</a:rPr>
              <a:t>尚未經過鑑定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的轉介個案進行初步篩選，以找出疑似自閉症的兒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針對經過鑑定，但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</a:rPr>
              <a:t>懷疑鑑定可能有誤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的轉介個案進行初步篩選，以瞭解有無可能為疑似自閉症兒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針對</a:t>
            </a:r>
            <a:r>
              <a:rPr b="0" lang="zh-TW" sz="2800" spc="-1" strike="noStrike" u="sng">
                <a:solidFill>
                  <a:srgbClr val="ffffcc"/>
                </a:solidFill>
                <a:uFillTx/>
                <a:latin typeface="標楷體"/>
                <a:ea typeface="標楷體"/>
              </a:rPr>
              <a:t>已鑑定確認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之自閉症兒童實施時，可提供該生目前行為表現之資料供老師教學輔導之參考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自閉症兒童行為檢核表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共計三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*</a:t>
            </a:r>
            <a:r>
              <a:rPr b="0" lang="zh-TW" sz="2400" spc="-1" strike="noStrike" u="sng">
                <a:solidFill>
                  <a:srgbClr val="cc00cc"/>
                </a:solidFill>
                <a:uFillTx/>
                <a:latin typeface="標楷體"/>
                <a:ea typeface="標楷體"/>
                <a:hlinkClick r:id="rId1"/>
              </a:rPr>
              <a:t>學前兒童用版本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：適用於學前兒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*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低年級兒童用版本：適用於國小一、二年級兒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*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中年級以上兒童用版本：適用於國小三年級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含</a:t>
            </a: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以 上至國三學生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評量者：由熟悉個案的教師或父母為主要填答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標楷體"/>
              </a:rPr>
              <a:t>計分者與研判者：受過研習之教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2:40:30Z</dcterms:created>
  <dc:creator>張正芬</dc:creator>
  <dc:description/>
  <dc:language>en-US</dc:language>
  <cp:lastModifiedBy>OREO O'</cp:lastModifiedBy>
  <dcterms:modified xsi:type="dcterms:W3CDTF">2019-04-16T02:31:25Z</dcterms:modified>
  <cp:revision>20</cp:revision>
  <dc:subject/>
  <dc:title>如何運用自閉症發展檢核表</dc:title>
</cp:coreProperties>
</file>